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E82-10B3-4B76-AB4C-C3E52C2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0C7-9BED-4C42-85DA-8DBFFDCC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579-DD08-4149-A0C3-16FC3B92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73E-E4CD-492C-AA38-1EB7DA4B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C55-78F1-411E-B4EB-9850A09C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4A1-4ED9-4615-B260-C0099BAD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5BFA-95A3-4014-BE13-0FB1CC92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B190-5CD3-4E02-BB64-177E145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1CDA-23A2-4BD1-8C75-A4FB1C3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373-AFF2-41EC-BDF3-1478F84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7F2C-5B75-44D8-9247-3ADF6F1B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AE03-CA87-450C-8791-F817221C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287-6E24-416D-9FA5-2DC62020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D31-D9A6-4BCE-B781-9865A5C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406-747B-4D36-8BA7-83EDC45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1AB-F756-4E4E-A020-4303E7BF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1DE5-7252-4A31-A4E8-652C434C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1321-C562-495A-B651-30390243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B1D9-DEED-444D-BF7F-F3BF9713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4696-51C0-44F1-A30F-CE86E94D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4E6-1B2B-46D2-BE85-A5C7C5F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31C2-E5CD-45CA-9734-01FA2967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C72A-0EB6-4DBB-A7A1-59ECD290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C73E-9921-4AF0-B796-15CC8C3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A66A-BFC9-4B26-897D-C677368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DCBE-98F8-48AA-A4AB-CDF7937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528C-CBA1-42AA-A43E-9B207AF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53CC-7813-4353-AC83-0C73346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1329-26AA-4418-93B8-471F6C08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55E4-4E11-451F-8098-DF25C54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0DDD-BB35-4B34-B52A-1B805994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F33-9D6F-452A-A4FD-59118284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3951-6FFC-4BDB-AAD6-7EA10098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C4B0-1B38-42AE-8794-5341230E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F4A0-E760-4AA1-9A1B-D1123E6F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E086-716C-4DC4-AAAB-F6690E8B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3A59-6BA4-4803-9D4F-50E5D82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D255-F4BD-46C6-8AEA-BECD712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D65F-A336-4777-884F-B2EEFA3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A26A-B745-43F9-8045-94725F5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5854-BBF2-4BA6-BBFB-6C2B2A7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27A5-613B-4104-B997-7D11B8E9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4AF-8E60-4B6E-9D22-053089D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97FB-68A5-449A-B1C9-E5D052E8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480C-E4DD-4C23-8A46-A61BE42B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D87C-2586-4529-A63B-0BA01D27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6A1-1428-4AF5-977F-28C0763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858-A1BD-442D-A1DA-E1055B9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F8F4A7B-FC59-406E-8493-A196F09AF0D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592D876-C8E2-4E9F-AFE9-A762F9FA951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F1A2FDA-81AF-428F-8FF8-F23D62C61A7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7B3D940-F2E3-49CD-822A-065D8A3A403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mów łańcuch przeżycia. Wyjaśnij znaczenie „złotej godziny” i „platynowych minut”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476280"/>
            <a:ext cx="102204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Łańcuch przeżycia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znanie i wezwanie pomoc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częcie RKO - wczesna defibrylacj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pieka poresuscytacyjn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Złota godzina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60 minut, w trakcie których poszkodowany powinien się znaleźć w szpitalu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Platynowe minuty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pierwszych 5 minut, w czasie których należy podjąć zabiegi resuscytacyjne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8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